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shiphorn.wav" ContentType="audio/x-wav"/>
  <Override PartName="/ppt/media/zipdn102.wav" ContentType="audio/x-wav"/>
  <Override PartName="/ppt/media/image2.gif" ContentType="image/gif"/>
  <Override PartName="/ppt/media/bserie06.wav" ContentType="audio/x-wav"/>
  <Override PartName="/ppt/media/jetflyby2.wav" ContentType="audio/x-wav"/>
  <Override PartName="/ppt/media/meepmeep.wav" ContentType="audio/x-wav"/>
  <Override PartName="/ppt/media/image1.gif" ContentType="image/gif"/>
  <Override PartName="/ppt/media/highchime.wav" ContentType="audio/x-wav"/>
  <Override PartName="/ppt/media/image3.gif" ContentType="image/gif"/>
  <Override PartName="/ppt/media/image4.gif" ContentType="image/gif"/>
  <Override PartName="/ppt/media/image5.gif" ContentType="image/gif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3BA-8366-4EA6-92B0-CE34EA24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D81-A8AE-4C18-97A2-CCBAFFD2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9E8-D928-4C41-964F-5DEBB5A4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0D7-C4B0-470A-9CFC-86038947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1A8-3BC5-4A49-9C0F-544167A3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846-1E30-4AE4-8FEB-EF9F8731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C12-B297-473E-A1AE-CCB04347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6A3-CA94-4235-87BB-A7D5477B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26F-E325-49D3-905A-7D78D99B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8C6C-856E-486F-9536-885A5317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F16-DC99-483B-8C32-180E3D8A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87CD-9142-478A-A8A3-94BAE252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2D77-1648-420E-A5A6-D84FBA304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meepmeep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meepmeep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shiphorn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bserie06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highchime.wav"/><Relationship Id="rId4" Type="http://schemas.openxmlformats.org/officeDocument/2006/relationships/audio" Target="../media/bserie06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bserie06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how the calculator keystroke for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65120" y="1427040"/>
                <a:ext cx="50338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61920" y="2395440"/>
                <a:ext cx="928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305160" y="3556080"/>
                <a:ext cx="6224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933560" y="243828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671920" y="2414520"/>
                <a:ext cx="566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3317760" y="244476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962520" y="2395440"/>
                <a:ext cx="5158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570560" y="2438280"/>
            <a:ext cx="51732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197320" y="2409840"/>
                <a:ext cx="5162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5729400" y="2430360"/>
            <a:ext cx="51732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how the calculator keystroke for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927000" y="1357200"/>
                <a:ext cx="37339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319040" y="2408400"/>
                <a:ext cx="5162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195720" y="3484440"/>
                <a:ext cx="9604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1933560" y="243828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2360" y="244476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164040" y="2395440"/>
                <a:ext cx="5158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656160" y="2452680"/>
            <a:ext cx="51732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216320" y="2421000"/>
                <a:ext cx="8254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5700600" y="245916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7760" y="2460600"/>
            <a:ext cx="51732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581880" y="789120"/>
            <a:ext cx="2562120" cy="3333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841400" y="3968640"/>
                <a:ext cx="9622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668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Write an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766880" y="3817800"/>
                <a:ext cx="113040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973240" y="4402080"/>
                <a:ext cx="15829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203040" y="1262160"/>
            <a:ext cx="690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A manufacturer shipped 72 mugs separated into 3 cases. There are 24 mugs in each cas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70200" y="2924280"/>
                <a:ext cx="9619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668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Write an equation for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81360" y="2930400"/>
                <a:ext cx="1130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802040" y="2922480"/>
                <a:ext cx="1640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03040" y="1262160"/>
            <a:ext cx="894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47 students went to a game. 39 went on a bus. 8 went in a v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800520"/>
            <a:ext cx="3333600" cy="3057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543640" y="4340160"/>
            <a:ext cx="3600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94520" y="2948040"/>
            <a:ext cx="2949480" cy="3909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5244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36720" y="2849400"/>
                <a:ext cx="6224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668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Write an equation for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278160" y="2843280"/>
                <a:ext cx="13557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627440" y="2836800"/>
                <a:ext cx="15829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03040" y="1262160"/>
            <a:ext cx="894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Chris is 28. He is twice as old as his cousin. His cousin is 1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382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51, 2 – 9 #1-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53, 2 – 10 #1-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15/1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9-02T17:12:40Z</dcterms:modified>
  <cp:revision>70</cp:revision>
  <dc:subject/>
  <dc:title>Slide 1</dc:title>
</cp:coreProperties>
</file>